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77C9-7B4E-483B-8210-07A7C05B5BFC}" type="slidenum">
              <a:rPr b="0" lang="hr-HR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pping of floods and min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B84-D822-467A-8AAB-6EFB2420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25A-9DAD-46ED-9826-CA4C1A0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3C2-09A6-4363-9446-B81BF8A8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98D-214C-4AD4-9D6E-0BADD00F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35BD-4B6B-4359-AD14-409A1BC2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6F9-D404-4A93-9271-F4F9805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BCEE-1D26-49A6-9CDD-6836625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3B28-16DC-45C4-A552-98E0FC8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2507-2849-4A38-ACBA-3222F29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C8E6-6FDF-4D97-830B-3E7D4B3E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3FBD-230A-416B-BEB1-EBE4977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9DF-E991-42FF-BB42-28C51430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70C-183D-4DEA-8EE4-8472B09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0128-BF97-4253-A118-C29472D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631-5BB2-41A9-9EA5-C89547B4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9422-60E0-4849-A3DB-946E8079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CEDA-0025-48FF-A6C7-0989A14B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BD0-79F5-4FD9-AC0E-ECDB55B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ADB-267F-4412-BE86-3727B57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271-227E-447D-81BD-88293D2C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DD5-24CD-4971-8AA8-8A2E2992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8D2-F91C-4401-9061-5F9E93F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607-57D8-428F-9A88-3D5B3F0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C5D-7FA1-49CC-A9FD-0EA6070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A757-E750-4EEB-A315-B17B2DF86A35}" type="slidenum"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C8A0-C666-4D3E-9906-98883CECC224}" type="slidenum">
              <a:rPr b="0" lang="hr-BA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100160" cy="125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95280" y="1413000"/>
            <a:ext cx="8280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SECTORAL PRIORITIES IN THE BRČKO DISTRICT OF B&amp;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32968"/>
                </a:solidFill>
                <a:latin typeface="Arial"/>
              </a:rPr>
              <a:t>updated</a:t>
            </a:r>
            <a:r>
              <a:rPr b="0" lang="en-US" sz="3600" spc="-1" strike="noStrike">
                <a:solidFill>
                  <a:srgbClr val="932968"/>
                </a:solidFill>
                <a:latin typeface="Arial"/>
              </a:rPr>
              <a:t>: O</a:t>
            </a:r>
            <a:r>
              <a:rPr b="0" lang="hr-HR" sz="3600" spc="-1" strike="noStrike">
                <a:solidFill>
                  <a:srgbClr val="932968"/>
                </a:solidFill>
                <a:latin typeface="Arial"/>
              </a:rPr>
              <a:t>ctober</a:t>
            </a:r>
            <a:r>
              <a:rPr b="0" lang="en-US" sz="3600" spc="-1" strike="noStrike">
                <a:solidFill>
                  <a:srgbClr val="932968"/>
                </a:solidFill>
                <a:latin typeface="Arial"/>
              </a:rPr>
              <a:t> 20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08080" y="1773360"/>
            <a:ext cx="8935920" cy="2881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24000" y="4365720"/>
            <a:ext cx="8569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ECTOR: CIVIL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DMINISTRATIVE BODY: DEPARTMENT FOR PUBLIC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Integral project of strengthening the civil protection capacities through procurement of equipment for protection of life and property of citiz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TAL VALUE: BAM 6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2968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3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346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826920" y="333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OF FLOODS AND MINE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684360" y="490680"/>
            <a:ext cx="8045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3800" cy="2657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39640" y="33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3465360"/>
            <a:ext cx="8353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PUBLIC UT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Construction of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and secondary water supply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n Vučilov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1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Detailed hydr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ogical research of the northern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jevica moun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0,5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3" descr=""/>
          <p:cNvPicPr/>
          <p:nvPr/>
        </p:nvPicPr>
        <p:blipFill>
          <a:blip r:embed="rId1"/>
          <a:stretch/>
        </p:blipFill>
        <p:spPr>
          <a:xfrm>
            <a:off x="284040" y="765000"/>
            <a:ext cx="8529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75340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4365720"/>
            <a:ext cx="8353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AGRICULTURE, FORESTRY AND WATER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Regulation of Brka and Zovičica rivers in the urban area of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of B&amp;H – phases II, III and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6,5 m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0000" y="509760"/>
            <a:ext cx="773280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28680" y="1628640"/>
            <a:ext cx="8815320" cy="2565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ORITY INTERVEN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414972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: PUBLIC ROA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BODY: DEPARTMENT FOR PUBLIC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ITLE: Integral project of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mages caused b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VALUE: BAM 758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24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0:54:30Z</dcterms:created>
  <dc:creator>Silver</dc:creator>
  <dc:description/>
  <dc:language>en-US</dc:language>
  <cp:lastModifiedBy>operater</cp:lastModifiedBy>
  <dcterms:modified xsi:type="dcterms:W3CDTF">2014-10-15T11:05:04Z</dcterms:modified>
  <cp:revision>8</cp:revision>
  <dc:subject/>
  <dc:title>Pregled sektorskih prioriteta  Brčko distrikta BiH Ažurirano Oktobar 2014</dc:title>
</cp:coreProperties>
</file>